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C5FC-9749-4B12-A094-DD43DC02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1FF-19EB-42B4-B4CD-1730715B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EF44-743E-43E4-91A4-74F0474A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8C46-6961-4B93-8D74-0B65EB03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EBE3-7680-45B2-B164-C1B810B0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7A53-05CD-4D09-94DF-6ACE3DB4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2A74-6F59-41CA-8A1E-2EC464DF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017D-1C57-437E-B41C-1CDA4237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32E6-2C17-45C7-A772-0A98979E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EC13-4CC8-4557-BB96-EB1C63C5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64D1-BA2A-4DE8-ADC0-BFB89C8E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0B6-3649-4EE2-A9F0-F7D540D1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593A-3F98-40BF-BEB0-E1AE0E74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99F6-40D9-48C7-A682-6070B09C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9D11-72F5-429D-96A6-A27A06DA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299B-ABAF-48B7-9F76-79B46F5F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50A5-C137-4A7E-A09E-0A7B0EC4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3B38C-67B2-4905-8F0C-DBE41EF9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0BBCC-ED69-4B88-A2E6-13B8A444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33C15-A5B3-4D90-B103-C74AA6D8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1365B-ECE0-4655-852B-E1551BB4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FEBCA-1D62-47F7-949E-B0AAF437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E20-5BD7-4D91-AF7E-CB15F346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5DE5C-22C6-4748-A03D-F11DF365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7309B-12C8-4D8D-9C44-07518444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D732E-74AE-4EFB-A407-809E7076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3C1B2-823B-47A7-A0EA-8A208A5B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FEF3F-A7E7-424F-A0E9-0230A94F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389F6-7654-4A28-A825-785867DF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78AB3-3117-44F5-B790-97729B15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34E2C-F316-44AD-B2AE-0CB34BF6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C6ADD-0522-4675-80A7-66098713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24A5E-E052-497C-AC42-471E2E49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038-E5FF-4874-9E47-0E2CE15F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ECDEF-2863-416A-8C60-078F0626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48988-2593-40BC-8773-97657F28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75008-951A-4050-A7CA-725F76EC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C7C4F-2F0B-4F9B-BCAE-2E369B32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820DC-4760-4FEC-ABF8-0C6AEEFC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241E4-3230-4CCE-857C-8D7FBE08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1DF06-EEE9-4A39-B961-C83A7934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F73F1-729B-4159-81AF-9AEC63A0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30AF1-42C5-4EF5-A9F9-72951A86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E06-81B5-437F-958E-82CBE241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94C2-7DC0-4FD0-BEAF-3A298784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24B1-A56C-45FF-A514-82199703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51B-2227-4DCC-9F42-22BAB023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867-4E8F-4FE7-AD8C-57DBBC9A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E495-E4AC-407F-A687-35AB9971EA7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AED6-5F6A-4CCD-8EE1-D968FE3AB3D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C43A-E3DD-4291-9F2F-45265DF2384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B106-CB68-49D1-9AB6-CB36FD5B393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Game- groups of 3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Whiteboard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Everybody writ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Assign 2 numbers to everybod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Teacher rolls dice-to pick reade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 need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 necesita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e listen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Él escuch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 end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 termin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y played pia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 tocar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You s/form pass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. pas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You pl/form prepar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s. preparar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 bath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 me bañ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You s/fam got u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ú te levantas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 beg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 empec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y took pho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 sacar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¿Cuáles son los términos para los verbos de ‘ar en el pretérito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y shav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 se afeitar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 pai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 pagu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 waited f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 espera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he helped 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a me ayud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y helped 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 nos ayudar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 explain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 expliqu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a y tú clean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osotros/as limpiaste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You and I won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 gana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¿Cuáles son los tres tipos de verbos que tienen conjugaciones irregulares en la forma de ‘yo’ en el pretérito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= qu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ar= gu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zar= c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he practic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a practic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y searched/looked f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 buscar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 played a s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 jugu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y danc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 bailar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 sw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 nada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You fam/sing help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ú ayudas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20:31:45Z</dcterms:created>
  <dc:creator>Coffman, Kristie</dc:creator>
  <dc:description/>
  <dc:language>en-US</dc:language>
  <cp:lastModifiedBy>Prine, Stephanie</cp:lastModifiedBy>
  <dcterms:modified xsi:type="dcterms:W3CDTF">2012-11-29T14:31:52Z</dcterms:modified>
  <cp:revision>6</cp:revision>
  <dc:subject/>
  <dc:title>5-3 2nd ‘ar pret. practice</dc:title>
</cp:coreProperties>
</file>